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move the slide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A6D04-8114-4D42-8465-1866196ADBD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B7814-8C6B-4B87-81E0-339B00B8B64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31EEB-B5FD-47DC-A9D8-41DEE7ECDFD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60E66-A08E-47FA-8347-F99E1731086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5721F-CCA7-4FD1-B6BB-ED3974DA8A4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2C4F3-2802-4844-B57C-CA41EB7F4BB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5A2FE-4435-4DB5-8B63-E51CCFED231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6F110-5A9D-477F-AD1D-9071A1D574B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9BC43-2514-49E2-BF0D-11ADAA3B3FF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67756-FFD7-4C39-99A0-23713D57F16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4BFB9-2A5F-44E6-9BFE-61225FB84A9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E3259-245A-46B6-A9CC-C793DF2ED62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68999-BC01-45EE-92B3-C61C8712FBF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ADEB1-5578-4A3C-90AC-402E07CB475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635AC-F29E-487F-B113-26E935510BF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2348C-FDBC-426A-8264-334196D3719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186E8-5AF6-49FB-943D-892A964A9D0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B104D-E5CA-4EEE-A336-49C36C5B00D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F11DB-6187-449F-BF2C-A0502EE6445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31B77-6DDE-42B8-858F-E9CEC33095E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31DDF-0ACC-4995-8EE3-4B948CA5450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051DD-A28D-4B39-A78B-83D74FB3EB0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FB6A8-B4E4-4A9F-AFF2-491F5D9C6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E5A6F-BAF7-4FFA-B8B2-41D3728B8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015D9-FB37-4CF5-A7AA-7392F5AC1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2CEDC-6C98-4E37-AD73-4CE94EB7D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86405-9E13-4AFA-8A87-5DD94DBF5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B5B72-F3BD-4C3D-AAD1-FC6712F02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11168-D705-476B-B668-7AA2A951B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2B1F4-DF28-4B9A-A92D-6D9585C08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FDBB5-7D71-4697-B735-66BB6E5BE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E672B-E0C3-4704-9298-74E8CA4CA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E35B4-C59D-4D03-B011-1C6CE6F83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8DF32-690A-45F9-8174-668BD7B8C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AA854-B045-4298-99F1-3C232BD20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BDEC3-CC13-46B4-97FC-531F7A475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B5950-F0C1-4CF5-B101-49064D1D3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4D803-CB1D-45A9-822D-182F45BAE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98FBB-114B-4F44-A029-DCA49D1AF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48EE0C4-DF1A-429E-AA15-C40C46E44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ABF795C-61BB-429F-BF46-351723BE6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9A31A62-07EC-4795-BC47-BEC2E2080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4E9C4D5-12FF-4E44-9181-CFC817591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BF88357-143E-40E4-98EE-719A24F4E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B218E-F594-4C51-B970-16BCDD9E8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31F74F3-857A-4F0A-B0FF-64E853FE6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4444CF2-58E8-4BBD-B1BA-DBFB705F6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6A8FD22-6F95-4EB1-83F2-3271C9FD2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7DD9E0F-4106-4E70-90DF-69A4B540F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2AE734C-91BA-4849-882D-FFE2208DB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232823C-B3DA-40E3-BAFF-C53F12168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8CBBA23-8B6C-4B6A-AA1C-06BB3EE30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9C707C6-137A-4321-9A94-A0F7FC97B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CBF93DB-8CA8-404D-840C-1DFF2C9CD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14EAEA5-E659-4B0A-9A25-4D72505D9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2A90C-0A82-4C46-8E2D-E570BF820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C2FBF1E-47B5-44B1-92BD-AC4716841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14A98CA-9FA6-4224-B87D-A89325852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50E7DD7-4FAB-43B0-B4E9-A2604732F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F519346-5004-43A7-926A-685E923C8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09B58F5-17AB-4490-BAE8-2E0063B53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85E08A2-5AF3-4EFB-B69B-9E7DAFDEB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C2E764B-955D-45FA-A191-8E62B30A7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2B34B2D-8F33-4105-AE1B-5FB194F98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1BB07B2-A74E-4ADE-94B7-ECB15A861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27D1442-5085-4070-AC6C-43A4427F2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35823-3411-44AD-8EC5-AB9041A45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11A641D-E58F-4A01-8E90-394DBBAB3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37936E7-6BC2-4346-9B1C-F90B62532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3FF993C-82A2-471D-A54B-37A5C376A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AFE1E96-6E39-4B90-85E2-5872DE1A2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9337BCB-576F-4384-8BBA-E666DBB6A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8BE707C-62CC-437A-9008-415C0F92F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D5AD080-B226-4331-A667-FE6F31C59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35F3F7B-FEF7-4C1A-974E-6F1B2D795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F690470-EE25-427B-9C15-804E4F600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886493C-08F7-46C9-B629-FFA21896D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6C42D-FA1F-4582-B354-C43005B4B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D9088B5-9E1A-4A39-AA22-25D5DDF2E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E5C9D9-A119-418D-90F7-3431AAE1D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048203-80DA-4511-88A0-D8AA8C356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FF5F12-D931-42C7-A1B6-39D02EB88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BD4034-3082-4837-9FC9-12A34C92B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F0DDED-8315-48D2-837F-A334A4FAD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AE0119-BD4E-4075-BCF0-317D32E5D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352854-E7BC-45E4-8B04-8C08B6CAC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BA206E-E534-4987-86C4-9795C419A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27CFBD-AEAB-4346-BE14-582145FA9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4738C-7570-4708-A627-0C215C670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DD0F69-AC4A-45C7-ABC0-143FD72B7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419D47-CD56-4D6F-95BF-B5722D243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30BD72-E767-4E18-B6C8-40AA4D173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ED6E983-8FDB-4758-9AA6-FB984476E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2803185-4E45-49C6-9469-5BB1ED4CC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E154009-C405-43B8-A84E-9814D6B60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C835899-AD7A-4188-8256-DD7F480F2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54D27B7-BFD7-40BF-A3FF-D37163F0D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B11B5D4-B1FB-4EF4-A2CB-F62F87C62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1A9588F-AAE3-455D-A1E6-2694413B0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6906F-7CB3-4A3B-BC6E-E97435EA5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E53DEA1-902A-45DB-B4F0-128429F0C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8434E1B-97C2-4BC0-A9D3-2E0998470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750E753-3F77-4E08-A8A1-7BD9918BD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97BE584-02FC-41C2-90E9-04C27CF52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8F9F008-E1D6-4B99-963B-387241794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65AD6F-0A66-45B6-A238-BC0B5C1F9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680577-66E5-47CD-BDA4-487D970BF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B8BE8F-FE75-40E2-BE46-189BE2183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D325E0-8DE8-4C59-AB1A-9B99A4D66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116347-C4A7-4DF1-B8F6-B0928519D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B762A-06D8-4F47-92D2-14E871516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56285C-12EC-4B03-8028-44E8D4726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3FC1F5-BA6C-4E35-8F60-FD55D14AE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A85FB7-F544-46D4-BA10-E5525DA5B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E2868E-25D4-41EC-BA49-FFDA6CAC7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AC476F-2F32-476F-89DB-58A4262DC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674AED-9B31-4543-AFC6-0F42FEF20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D89E1C-A425-462D-AA00-5A4B67DA3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4DBB0-B14F-4928-AFFE-6E38C83E031A}" type="slidenum">
              <a:rPr b="1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400" spc="-1" strike="noStrike">
                <a:solidFill>
                  <a:srgbClr val="ebddc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E8FD0-7238-49E1-B50D-C20E7040F3AB}" type="slidenum">
              <a:rPr b="1" lang="en-GB" sz="1400" spc="-1" strike="noStrike">
                <a:solidFill>
                  <a:srgbClr val="ebddc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BEDEE-C119-4261-AFD0-EA6F225EDCB0}" type="slidenum"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2DB65-C6DE-4472-B00C-C314D74B5713}" type="slidenum">
              <a:rPr b="1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F4972-74E3-4AF9-B8D7-2EF6EC027ADA}" type="slidenum">
              <a:rPr b="1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BF8BA-9E3E-4CD0-9D36-78DC7A3AC386}" type="slidenum">
              <a:rPr b="1" lang="en-GB" sz="1400" spc="-1" strike="noStrike">
                <a:solidFill>
                  <a:srgbClr val="775f5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5B538-3301-4E0C-A2DB-18BDFE8557AE}" type="slidenum"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530FA-9C1B-4715-8F5A-DC7C19310D61}" type="slidenum">
              <a:rPr b="1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europa.eu.int/mariecurie-actions" TargetMode="External"/><Relationship Id="rId2" Type="http://schemas.openxmlformats.org/officeDocument/2006/relationships/image" Target="../media/image3.png"/><Relationship Id="rId3" Type="http://schemas.openxmlformats.org/officeDocument/2006/relationships/hyperlink" Target="http://www.medicine.tcd.ie/pharmacology_therapeutics/marie_curie_training_programme/index.php" TargetMode="External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cuore.iss.it/eurociss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2143080" y="2714760"/>
            <a:ext cx="647712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ebddc3"/>
                </a:solidFill>
                <a:latin typeface="Tw Cen MT"/>
              </a:rPr>
              <a:t>KEY FACTS REGARDING CVD TREATMENTS:</a:t>
            </a:r>
            <a:br>
              <a:rPr sz="4000"/>
            </a:br>
            <a:r>
              <a:rPr b="0" lang="en-GB" sz="4000" spc="-1" strike="noStrike">
                <a:solidFill>
                  <a:srgbClr val="ebddc3"/>
                </a:solidFill>
                <a:latin typeface="Tw Cen MT"/>
              </a:rPr>
              <a:t>USING THE EVIDENCE BASE IN MODELLING</a:t>
            </a:r>
            <a:endParaRPr b="0" lang="en-US" sz="40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58" name="Rectangle 5"/>
          <p:cNvSpPr/>
          <p:nvPr/>
        </p:nvSpPr>
        <p:spPr>
          <a:xfrm>
            <a:off x="1835280" y="4724280"/>
            <a:ext cx="6400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Martin O’Flaher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Simon Capew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Division of Public Heal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University of Liverpo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9" name="Group 6"/>
          <p:cNvGrpSpPr/>
          <p:nvPr/>
        </p:nvGrpSpPr>
        <p:grpSpPr>
          <a:xfrm>
            <a:off x="3149640" y="216000"/>
            <a:ext cx="5599080" cy="866520"/>
            <a:chOff x="3149640" y="216000"/>
            <a:chExt cx="5599080" cy="866520"/>
          </a:xfrm>
        </p:grpSpPr>
        <p:pic>
          <p:nvPicPr>
            <p:cNvPr id="360" name="Picture 7" descr="Marie Curies Actions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7396200" y="216000"/>
              <a:ext cx="1352520" cy="86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1" name="Picture 8" descr="Logo">
              <a:hlinkClick r:id="rId3"/>
            </p:cNvPr>
            <p:cNvPicPr/>
            <p:nvPr/>
          </p:nvPicPr>
          <p:blipFill>
            <a:blip r:embed="rId4"/>
            <a:stretch/>
          </p:blipFill>
          <p:spPr>
            <a:xfrm>
              <a:off x="3635280" y="274680"/>
              <a:ext cx="3648240" cy="35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Rectangle 9"/>
            <p:cNvSpPr/>
            <p:nvPr/>
          </p:nvSpPr>
          <p:spPr>
            <a:xfrm>
              <a:off x="3149640" y="647640"/>
              <a:ext cx="3912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e9d333"/>
                  </a:solidFill>
                  <a:latin typeface="Calibri"/>
                  <a:ea typeface="Arial"/>
                </a:rPr>
                <a:t>Cardiovascular Epidemiology and Epidemiological Modelli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775f55"/>
                </a:solidFill>
                <a:latin typeface="Tw Cen MT"/>
              </a:rPr>
              <a:t>Chronic Angina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w Cen MT"/>
              </a:rPr>
              <a:t>Progressive occlusion by an atherosclerotic plaque, causing myocardial ischemia. 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w Cen MT"/>
              </a:rPr>
              <a:t>Definition: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w Cen MT"/>
              </a:rPr>
              <a:t>Clinical definition based on anginal symptoms, pattern and duration</a:t>
            </a:r>
            <a:endParaRPr b="0" lang="en-US" sz="10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w Cen MT"/>
              </a:rPr>
              <a:t>Several validated questionnaires (Rose questionnaire)</a:t>
            </a:r>
            <a:endParaRPr b="0" lang="en-US" sz="1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Therapy: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w Cen MT"/>
              </a:rPr>
              <a:t>Avoid ischemic events (secondary prevention)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w Cen MT"/>
              </a:rPr>
              <a:t>Symptom relief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w Cen MT"/>
              </a:rPr>
              <a:t>Efficacy outcomes:</a:t>
            </a:r>
            <a:r>
              <a:rPr b="0" lang="en-GB" sz="16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w Cen MT"/>
              </a:rPr>
              <a:t>Rates of major cardiovascular events: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w Cen MT"/>
              </a:rPr>
              <a:t>Death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w Cen MT"/>
              </a:rPr>
              <a:t>AMI/UA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w Cen MT"/>
              </a:rPr>
              <a:t>Symptoms and Quality of Life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w Cen MT"/>
              </a:rPr>
              <a:t>Safety outcomes:</a:t>
            </a:r>
            <a:r>
              <a:rPr b="0" lang="en-GB" sz="16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w Cen MT"/>
              </a:rPr>
              <a:t>Rates of major bleeding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775f55"/>
                </a:solidFill>
                <a:latin typeface="Tw Cen MT"/>
              </a:rPr>
              <a:t>Secondary Prevention in CVD patients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Who: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Every patient with Clinical CHD (Survivors of ACS, Chronic Angina, CHD related heart failure and) and Stroke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Aspirin/Clopidogrel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Anticoagulant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ACEI/ARIIB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Beta blockers (stroke: may not be indicated)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Statin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BP reduction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Smoking cessation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Rehabilitation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775f55"/>
                </a:solidFill>
                <a:latin typeface="Tw Cen MT"/>
              </a:rPr>
              <a:t>CABG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Compared to Medical treatment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w Cen MT"/>
              </a:rPr>
              <a:t>Has an effect on mortality.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w Cen MT"/>
              </a:rPr>
              <a:t>Benefit changes with: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Tw Cen MT"/>
              </a:rPr>
              <a:t>Extent of coronary artery involvement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Tw Cen MT"/>
              </a:rPr>
              <a:t>Ventricular function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33" name="Picture 2" descr=""/>
          <p:cNvPicPr/>
          <p:nvPr/>
        </p:nvPicPr>
        <p:blipFill>
          <a:blip r:embed="rId1"/>
          <a:stretch/>
        </p:blipFill>
        <p:spPr>
          <a:xfrm>
            <a:off x="4786200" y="1571760"/>
            <a:ext cx="3695760" cy="2314440"/>
          </a:xfrm>
          <a:prstGeom prst="rect">
            <a:avLst/>
          </a:prstGeom>
          <a:ln w="0">
            <a:noFill/>
          </a:ln>
        </p:spPr>
      </p:pic>
      <p:sp>
        <p:nvSpPr>
          <p:cNvPr id="434" name="Rectangle 5"/>
          <p:cNvSpPr/>
          <p:nvPr/>
        </p:nvSpPr>
        <p:spPr>
          <a:xfrm>
            <a:off x="6000840" y="4071960"/>
            <a:ext cx="45720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Yusuf et al. Lancet 1994; 344: 563-70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775f55"/>
                </a:solidFill>
                <a:latin typeface="Tw Cen MT"/>
              </a:rPr>
              <a:t>PCI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Compared to Medical treatmen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w Cen MT"/>
              </a:rPr>
              <a:t>It has no mortality benefit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w Cen MT"/>
              </a:rPr>
              <a:t>It produces symptom relief.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37" name="Picture 3" descr=""/>
          <p:cNvPicPr/>
          <p:nvPr/>
        </p:nvPicPr>
        <p:blipFill>
          <a:blip r:embed="rId1"/>
          <a:stretch/>
        </p:blipFill>
        <p:spPr>
          <a:xfrm>
            <a:off x="4786200" y="2071800"/>
            <a:ext cx="3591000" cy="2400120"/>
          </a:xfrm>
          <a:prstGeom prst="rect">
            <a:avLst/>
          </a:prstGeom>
          <a:ln w="0">
            <a:noFill/>
          </a:ln>
        </p:spPr>
      </p:pic>
      <p:sp>
        <p:nvSpPr>
          <p:cNvPr id="438" name="Rectangle 6"/>
          <p:cNvSpPr/>
          <p:nvPr/>
        </p:nvSpPr>
        <p:spPr>
          <a:xfrm>
            <a:off x="5357880" y="4643280"/>
            <a:ext cx="457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200" spc="-1" strike="noStrike">
                <a:solidFill>
                  <a:srgbClr val="000000"/>
                </a:solidFill>
                <a:latin typeface="Arial"/>
              </a:rPr>
              <a:t>Bucher et al. BMJ 2000; 321: 73- 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775f55"/>
                </a:solidFill>
                <a:latin typeface="Tw Cen MT"/>
              </a:rPr>
              <a:t>Drug eluting stent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440" name="Picture 2" descr="http://content.nejm.org/content/vol356/issue15/images/large/05f2.jpeg"/>
          <p:cNvPicPr/>
          <p:nvPr/>
        </p:nvPicPr>
        <p:blipFill>
          <a:blip r:embed="rId1"/>
          <a:stretch/>
        </p:blipFill>
        <p:spPr>
          <a:xfrm>
            <a:off x="1319040" y="1428840"/>
            <a:ext cx="6505920" cy="4722840"/>
          </a:xfrm>
          <a:prstGeom prst="rect">
            <a:avLst/>
          </a:prstGeom>
          <a:ln w="0">
            <a:noFill/>
          </a:ln>
        </p:spPr>
      </p:pic>
      <p:sp>
        <p:nvSpPr>
          <p:cNvPr id="441" name="Rectangle 4"/>
          <p:cNvSpPr/>
          <p:nvPr/>
        </p:nvSpPr>
        <p:spPr>
          <a:xfrm>
            <a:off x="5006520" y="6286680"/>
            <a:ext cx="2364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Arial"/>
              </a:rPr>
              <a:t>Boden et al. NEJM 356 (15): 150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775f55"/>
                </a:solidFill>
                <a:latin typeface="Tw Cen MT"/>
              </a:rPr>
              <a:t>Heart Failur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12480" indent="-31248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w Cen MT"/>
              </a:rPr>
              <a:t>Progressive loss of the pump function of the heart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w Cen MT"/>
              </a:rPr>
              <a:t>Definition: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26760" indent="-26712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w Cen MT"/>
              </a:rPr>
              <a:t>Clinical syndrome + a measure of ventricular function. Some biomarkers are beeing increasingly used in clinical practice. </a:t>
            </a: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Tw Cen MT"/>
              </a:rPr>
              <a:t>Therapy: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2" marL="896040" indent="-223920">
              <a:lnSpc>
                <a:spcPct val="8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w Cen MT"/>
              </a:rPr>
              <a:t>Decrease mortality from</a:t>
            </a: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  <a:p>
            <a:pPr lvl="3" marL="1343880" indent="-223920">
              <a:lnSpc>
                <a:spcPct val="80000"/>
              </a:lnSpc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w Cen MT"/>
              </a:rPr>
              <a:t>Progressive heart failure</a:t>
            </a: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  <a:p>
            <a:pPr lvl="3" marL="1343880" indent="-223920">
              <a:lnSpc>
                <a:spcPct val="80000"/>
              </a:lnSpc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w Cen MT"/>
              </a:rPr>
              <a:t>Sudden death</a:t>
            </a: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  <a:p>
            <a:pPr lvl="2" marL="896040" indent="-223920">
              <a:lnSpc>
                <a:spcPct val="8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w Cen MT"/>
              </a:rPr>
              <a:t>Symptom relief</a:t>
            </a: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  <a:p>
            <a:pPr lvl="2" marL="896040" indent="-223920">
              <a:lnSpc>
                <a:spcPct val="8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w Cen MT"/>
              </a:rPr>
              <a:t>Resource use control</a:t>
            </a: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w Cen MT"/>
              </a:rPr>
              <a:t>Efficacy outcomes:</a:t>
            </a:r>
            <a:r>
              <a:rPr b="0" lang="en-GB" sz="22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1" marL="626760" indent="-26712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w Cen MT"/>
              </a:rPr>
              <a:t>Rates of major cardiovascular events:</a:t>
            </a: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  <a:p>
            <a:pPr lvl="2" marL="896040" indent="-223920">
              <a:lnSpc>
                <a:spcPct val="8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Tw Cen MT"/>
              </a:rPr>
              <a:t>Death</a:t>
            </a: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  <a:p>
            <a:pPr lvl="2" marL="896040" indent="-223920">
              <a:lnSpc>
                <a:spcPct val="8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Tw Cen MT"/>
              </a:rPr>
              <a:t>Symptoms and Quality of Life</a:t>
            </a: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  <a:p>
            <a:pPr lvl="2" marL="896040" indent="-223920">
              <a:lnSpc>
                <a:spcPct val="8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Tw Cen MT"/>
              </a:rPr>
              <a:t>Proxy measures of ventricular function</a:t>
            </a: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  <a:p>
            <a:pPr lvl="1" marL="626760" indent="-26712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775f55"/>
                </a:solidFill>
                <a:latin typeface="Tw Cen MT"/>
              </a:rPr>
              <a:t>Available treatments for Heart Failure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Rehab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ACEI/ARII b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Aspirin?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Beta-blocker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Implantable Cardio Defibrillator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Spironolacton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Anticoagulants ?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Amiodarone?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Statins?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775f55"/>
                </a:solidFill>
                <a:latin typeface="Tw Cen MT"/>
              </a:rPr>
              <a:t>Statins in Heart Failur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4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Current Debate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w Cen MT"/>
              </a:rPr>
              <a:t>Physiopathological thinking suggests a role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w Cen MT"/>
              </a:rPr>
              <a:t>Role of statins in PostMI and CA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w Cen MT"/>
              </a:rPr>
              <a:t>Observational evidence suggest an effect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w Cen MT"/>
              </a:rPr>
              <a:t>Clinical trials: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Tw Cen MT"/>
              </a:rPr>
              <a:t>CORONA : no effect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Tw Cen MT"/>
              </a:rPr>
              <a:t>GISSI: expecting results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775f55"/>
                </a:solidFill>
                <a:latin typeface="Tw Cen MT"/>
              </a:rPr>
              <a:t>Statins in heart failur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449" name="Picture 4" descr="Image"/>
          <p:cNvPicPr/>
          <p:nvPr/>
        </p:nvPicPr>
        <p:blipFill>
          <a:blip r:embed="rId1"/>
          <a:stretch/>
        </p:blipFill>
        <p:spPr>
          <a:xfrm>
            <a:off x="142920" y="1424160"/>
            <a:ext cx="8429760" cy="5005080"/>
          </a:xfrm>
          <a:prstGeom prst="rect">
            <a:avLst/>
          </a:prstGeom>
          <a:ln w="0">
            <a:noFill/>
          </a:ln>
        </p:spPr>
      </p:pic>
      <p:sp>
        <p:nvSpPr>
          <p:cNvPr id="450" name="Rectangle 5"/>
          <p:cNvSpPr/>
          <p:nvPr/>
        </p:nvSpPr>
        <p:spPr>
          <a:xfrm>
            <a:off x="928800" y="1357200"/>
            <a:ext cx="3000240" cy="571680"/>
          </a:xfrm>
          <a:prstGeom prst="rect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w Cen MT"/>
              </a:rPr>
              <a:t>CHD rel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Rectangle 6"/>
          <p:cNvSpPr/>
          <p:nvPr/>
        </p:nvSpPr>
        <p:spPr>
          <a:xfrm>
            <a:off x="5214960" y="1357200"/>
            <a:ext cx="3143160" cy="571680"/>
          </a:xfrm>
          <a:prstGeom prst="rect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w Cen MT"/>
              </a:rPr>
              <a:t>Non CHD rel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Rectangle 6"/>
          <p:cNvSpPr/>
          <p:nvPr/>
        </p:nvSpPr>
        <p:spPr>
          <a:xfrm>
            <a:off x="5805000" y="6433200"/>
            <a:ext cx="271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 Am Coll Cardiol. 2008 Jan 29;51(4):415-26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Rectangle 7"/>
          <p:cNvSpPr/>
          <p:nvPr/>
        </p:nvSpPr>
        <p:spPr>
          <a:xfrm>
            <a:off x="71280" y="1357200"/>
            <a:ext cx="428760" cy="42876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Rectangle 8"/>
          <p:cNvSpPr/>
          <p:nvPr/>
        </p:nvSpPr>
        <p:spPr>
          <a:xfrm>
            <a:off x="4286160" y="1357200"/>
            <a:ext cx="428760" cy="42876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775f55"/>
                </a:solidFill>
                <a:latin typeface="Tw Cen MT"/>
              </a:rPr>
              <a:t>Key issues when modelling interventions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w Cen MT"/>
              </a:rPr>
              <a:t>Mortality benefit or Quality of Life?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w Cen MT"/>
              </a:rPr>
              <a:t>Which patients are eligible?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w Cen MT"/>
              </a:rPr>
              <a:t>Current guidelines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775f55"/>
                </a:solidFill>
                <a:latin typeface="Tw Cen MT"/>
              </a:rPr>
              <a:t>A Simplified model of the Clinical phase of Atherosclerosis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grpSp>
        <p:nvGrpSpPr>
          <p:cNvPr id="364" name="Oval 3"/>
          <p:cNvGrpSpPr/>
          <p:nvPr/>
        </p:nvGrpSpPr>
        <p:grpSpPr>
          <a:xfrm>
            <a:off x="1085760" y="2395440"/>
            <a:ext cx="962280" cy="3249720"/>
            <a:chOff x="1085760" y="2395440"/>
            <a:chExt cx="962280" cy="3249720"/>
          </a:xfrm>
        </p:grpSpPr>
        <p:pic>
          <p:nvPicPr>
            <p:cNvPr id="365" name="Oval 3" descr=""/>
            <p:cNvPicPr/>
            <p:nvPr/>
          </p:nvPicPr>
          <p:blipFill>
            <a:blip r:embed="rId1"/>
            <a:stretch/>
          </p:blipFill>
          <p:spPr>
            <a:xfrm>
              <a:off x="1085760" y="2395440"/>
              <a:ext cx="962280" cy="324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6" name=""/>
            <p:cNvSpPr/>
            <p:nvPr/>
          </p:nvSpPr>
          <p:spPr>
            <a:xfrm>
              <a:off x="1268280" y="2889360"/>
              <a:ext cx="606600" cy="22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Tw Cen MT"/>
                </a:rPr>
                <a:t>At ris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7" name="Oval 4"/>
          <p:cNvSpPr/>
          <p:nvPr/>
        </p:nvSpPr>
        <p:spPr>
          <a:xfrm>
            <a:off x="4286160" y="1857240"/>
            <a:ext cx="714600" cy="714600"/>
          </a:xfrm>
          <a:prstGeom prst="ellipse">
            <a:avLst/>
          </a:prstGeom>
          <a:solidFill>
            <a:srgbClr val="000000"/>
          </a:solidFill>
          <a:ln w="47520">
            <a:solidFill>
              <a:srgbClr val="ffffff"/>
            </a:solidFill>
            <a:miter/>
          </a:ln>
          <a:effectLst>
            <a:outerShdw dist="2988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Tw Cen MT"/>
              </a:rPr>
              <a:t>Sudden Deat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Oval 6"/>
          <p:cNvSpPr/>
          <p:nvPr/>
        </p:nvSpPr>
        <p:spPr>
          <a:xfrm>
            <a:off x="2786040" y="5000760"/>
            <a:ext cx="714240" cy="714240"/>
          </a:xfrm>
          <a:prstGeom prst="ellipse">
            <a:avLst/>
          </a:prstGeom>
          <a:solidFill>
            <a:srgbClr val="a5ab81"/>
          </a:solidFill>
          <a:ln w="10080">
            <a:solidFill>
              <a:srgbClr val="a5ab81"/>
            </a:solidFill>
            <a:miter/>
          </a:ln>
          <a:effectLst>
            <a:outerShdw dist="2988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Tw Cen MT"/>
              </a:rPr>
              <a:t>Chronic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Tw Cen MT"/>
              </a:rPr>
              <a:t>Angin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Oval 8"/>
          <p:cNvSpPr/>
          <p:nvPr/>
        </p:nvSpPr>
        <p:spPr>
          <a:xfrm>
            <a:off x="2643120" y="3857760"/>
            <a:ext cx="928800" cy="714240"/>
          </a:xfrm>
          <a:prstGeom prst="ellipse">
            <a:avLst/>
          </a:prstGeom>
          <a:solidFill>
            <a:srgbClr val="efcdc1"/>
          </a:solidFill>
          <a:ln w="10080">
            <a:solidFill>
              <a:srgbClr val="dd8047"/>
            </a:solidFill>
            <a:miter/>
          </a:ln>
          <a:effectLst>
            <a:outerShdw dist="2988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w Cen MT"/>
              </a:rPr>
              <a:t>Unstable Angin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Oval 7"/>
          <p:cNvSpPr/>
          <p:nvPr/>
        </p:nvSpPr>
        <p:spPr>
          <a:xfrm>
            <a:off x="2643120" y="3289320"/>
            <a:ext cx="928800" cy="714240"/>
          </a:xfrm>
          <a:prstGeom prst="ellipse">
            <a:avLst/>
          </a:prstGeom>
          <a:solidFill>
            <a:srgbClr val="dd8047"/>
          </a:solidFill>
          <a:ln w="47520">
            <a:solidFill>
              <a:srgbClr val="ffffff"/>
            </a:solidFill>
            <a:miter/>
          </a:ln>
          <a:effectLst>
            <a:outerShdw dist="2988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Tw Cen MT"/>
              </a:rPr>
              <a:t>Acute Myocardial Infarc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1" name="Oval 9"/>
          <p:cNvGrpSpPr/>
          <p:nvPr/>
        </p:nvGrpSpPr>
        <p:grpSpPr>
          <a:xfrm>
            <a:off x="5516640" y="3468600"/>
            <a:ext cx="817560" cy="817560"/>
            <a:chOff x="5516640" y="3468600"/>
            <a:chExt cx="817560" cy="817560"/>
          </a:xfrm>
        </p:grpSpPr>
        <p:pic>
          <p:nvPicPr>
            <p:cNvPr id="372" name="Oval 9" descr=""/>
            <p:cNvPicPr/>
            <p:nvPr/>
          </p:nvPicPr>
          <p:blipFill>
            <a:blip r:embed="rId2"/>
            <a:stretch/>
          </p:blipFill>
          <p:spPr>
            <a:xfrm>
              <a:off x="5516640" y="3468600"/>
              <a:ext cx="817560" cy="81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3" name=""/>
            <p:cNvSpPr/>
            <p:nvPr/>
          </p:nvSpPr>
          <p:spPr>
            <a:xfrm>
              <a:off x="5676840" y="3605040"/>
              <a:ext cx="50472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ffffff"/>
                  </a:solidFill>
                  <a:latin typeface="Tw Cen MT"/>
                </a:rPr>
                <a:t>Heart Failur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4" name="Oval 10"/>
          <p:cNvGrpSpPr/>
          <p:nvPr/>
        </p:nvGrpSpPr>
        <p:grpSpPr>
          <a:xfrm>
            <a:off x="6877080" y="3402000"/>
            <a:ext cx="816120" cy="816120"/>
            <a:chOff x="6877080" y="3402000"/>
            <a:chExt cx="816120" cy="816120"/>
          </a:xfrm>
        </p:grpSpPr>
        <p:pic>
          <p:nvPicPr>
            <p:cNvPr id="375" name="Oval 10" descr=""/>
            <p:cNvPicPr/>
            <p:nvPr/>
          </p:nvPicPr>
          <p:blipFill>
            <a:blip r:embed="rId3"/>
            <a:stretch/>
          </p:blipFill>
          <p:spPr>
            <a:xfrm>
              <a:off x="6877080" y="3402000"/>
              <a:ext cx="816120" cy="81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6" name=""/>
            <p:cNvSpPr/>
            <p:nvPr/>
          </p:nvSpPr>
          <p:spPr>
            <a:xfrm>
              <a:off x="7034040" y="3533760"/>
              <a:ext cx="505080" cy="50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ffffff"/>
                  </a:solidFill>
                  <a:latin typeface="Tw Cen MT"/>
                </a:rPr>
                <a:t>Death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77" name="Curved Connector 12"/>
          <p:cNvCxnSpPr/>
          <p:nvPr/>
        </p:nvCxnSpPr>
        <p:spPr>
          <a:xfrm flipV="1">
            <a:off x="2000160" y="2214000"/>
            <a:ext cx="2286720" cy="1786680"/>
          </a:xfrm>
          <a:prstGeom prst="curvedConnector5">
            <a:avLst>
              <a:gd name="adj1" fmla="val 11651"/>
              <a:gd name="adj2" fmla="val 50000"/>
              <a:gd name="adj3" fmla="val 11651"/>
            </a:avLst>
          </a:prstGeom>
          <a:ln w="34920">
            <a:solidFill>
              <a:srgbClr val="94b6d2"/>
            </a:solidFill>
            <a:miter/>
            <a:tailEnd len="med" type="arrow" w="med"/>
          </a:ln>
        </p:spPr>
      </p:cxnSp>
      <p:cxnSp>
        <p:nvCxnSpPr>
          <p:cNvPr id="378" name="Curved Connector 16"/>
          <p:cNvCxnSpPr/>
          <p:nvPr/>
        </p:nvCxnSpPr>
        <p:spPr>
          <a:xfrm flipV="1">
            <a:off x="2000160" y="3965040"/>
            <a:ext cx="572400" cy="36000"/>
          </a:xfrm>
          <a:prstGeom prst="curvedConnector5">
            <a:avLst>
              <a:gd name="adj1" fmla="val 49968"/>
              <a:gd name="adj2" fmla="val 49494"/>
              <a:gd name="adj3" fmla="val 49968"/>
            </a:avLst>
          </a:prstGeom>
          <a:ln w="34920">
            <a:solidFill>
              <a:srgbClr val="94b6d2"/>
            </a:solidFill>
            <a:miter/>
            <a:tailEnd len="med" type="arrow" w="med"/>
          </a:ln>
        </p:spPr>
      </p:cxnSp>
      <p:cxnSp>
        <p:nvCxnSpPr>
          <p:cNvPr id="379" name="Curved Connector 20"/>
          <p:cNvCxnSpPr/>
          <p:nvPr/>
        </p:nvCxnSpPr>
        <p:spPr>
          <a:xfrm>
            <a:off x="1999800" y="4000680"/>
            <a:ext cx="786600" cy="1357920"/>
          </a:xfrm>
          <a:prstGeom prst="curvedConnector5">
            <a:avLst>
              <a:gd name="adj1" fmla="val 50000"/>
              <a:gd name="adj2" fmla="val 49986"/>
              <a:gd name="adj3" fmla="val 50000"/>
            </a:avLst>
          </a:prstGeom>
          <a:ln w="34920">
            <a:solidFill>
              <a:srgbClr val="94b6d2"/>
            </a:solidFill>
            <a:miter/>
            <a:tailEnd len="med" type="arrow" w="med"/>
          </a:ln>
        </p:spPr>
      </p:cxnSp>
      <p:cxnSp>
        <p:nvCxnSpPr>
          <p:cNvPr id="380" name="Curved Connector 22"/>
          <p:cNvCxnSpPr>
            <a:stCxn id="368" idx="0"/>
            <a:endCxn id="381" idx="4"/>
          </p:cNvCxnSpPr>
          <p:nvPr/>
        </p:nvCxnSpPr>
        <p:spPr>
          <a:xfrm flipV="1" rot="16200000">
            <a:off x="2981520" y="4839120"/>
            <a:ext cx="286560" cy="37080"/>
          </a:xfrm>
          <a:prstGeom prst="curvedConnector5">
            <a:avLst>
              <a:gd name="adj1" fmla="val 49937"/>
              <a:gd name="adj2" fmla="val 50000"/>
              <a:gd name="adj3" fmla="val 49937"/>
            </a:avLst>
          </a:prstGeom>
          <a:ln w="34920">
            <a:solidFill>
              <a:srgbClr val="94b6d2"/>
            </a:solidFill>
            <a:miter/>
            <a:tailEnd len="med" type="arrow" w="med"/>
          </a:ln>
        </p:spPr>
      </p:cxnSp>
      <p:cxnSp>
        <p:nvCxnSpPr>
          <p:cNvPr id="382" name="Shape 24"/>
          <p:cNvCxnSpPr>
            <a:stCxn id="368" idx="6"/>
          </p:cNvCxnSpPr>
          <p:nvPr/>
        </p:nvCxnSpPr>
        <p:spPr>
          <a:xfrm flipV="1">
            <a:off x="3499920" y="4214160"/>
            <a:ext cx="2429640" cy="1143720"/>
          </a:xfrm>
          <a:prstGeom prst="curvedConnector2">
            <a:avLst/>
          </a:prstGeom>
          <a:ln w="34920">
            <a:solidFill>
              <a:srgbClr val="94b6d2"/>
            </a:solidFill>
            <a:miter/>
            <a:tailEnd len="med" type="arrow" w="med"/>
          </a:ln>
        </p:spPr>
      </p:cxnSp>
      <p:cxnSp>
        <p:nvCxnSpPr>
          <p:cNvPr id="383" name="Shape 26"/>
          <p:cNvCxnSpPr>
            <a:stCxn id="368" idx="6"/>
          </p:cNvCxnSpPr>
          <p:nvPr/>
        </p:nvCxnSpPr>
        <p:spPr>
          <a:xfrm flipV="1">
            <a:off x="3500280" y="4142880"/>
            <a:ext cx="3787200" cy="1215360"/>
          </a:xfrm>
          <a:prstGeom prst="curvedConnector2">
            <a:avLst/>
          </a:prstGeom>
          <a:ln w="34920">
            <a:solidFill>
              <a:srgbClr val="94b6d2"/>
            </a:solidFill>
            <a:miter/>
            <a:tailEnd len="med" type="arrow" w="med"/>
          </a:ln>
        </p:spPr>
      </p:cxnSp>
      <p:cxnSp>
        <p:nvCxnSpPr>
          <p:cNvPr id="384" name="Shape 28"/>
          <p:cNvCxnSpPr>
            <a:stCxn id="367" idx="6"/>
          </p:cNvCxnSpPr>
          <p:nvPr/>
        </p:nvCxnSpPr>
        <p:spPr>
          <a:xfrm>
            <a:off x="5000760" y="2214360"/>
            <a:ext cx="2286720" cy="1215000"/>
          </a:xfrm>
          <a:prstGeom prst="curvedConnector2">
            <a:avLst/>
          </a:prstGeom>
          <a:ln w="34920">
            <a:solidFill>
              <a:srgbClr val="94b6d2"/>
            </a:solidFill>
            <a:miter/>
            <a:tailEnd len="med" type="arrow" w="med"/>
          </a:ln>
        </p:spPr>
      </p:cxnSp>
      <p:cxnSp>
        <p:nvCxnSpPr>
          <p:cNvPr id="385" name="Shape 30"/>
          <p:cNvCxnSpPr/>
          <p:nvPr/>
        </p:nvCxnSpPr>
        <p:spPr>
          <a:xfrm flipV="1">
            <a:off x="3642840" y="3428280"/>
            <a:ext cx="3644280" cy="500760"/>
          </a:xfrm>
          <a:prstGeom prst="curvedConnector5">
            <a:avLst>
              <a:gd name="adj1" fmla="val 17121"/>
              <a:gd name="adj2" fmla="val 94244"/>
              <a:gd name="adj3" fmla="val 17121"/>
            </a:avLst>
          </a:prstGeom>
          <a:ln w="34920">
            <a:solidFill>
              <a:srgbClr val="94b6d2"/>
            </a:solidFill>
            <a:miter/>
            <a:tailEnd len="med" type="arrow" w="med"/>
          </a:ln>
        </p:spPr>
      </p:cxnSp>
      <p:sp>
        <p:nvSpPr>
          <p:cNvPr id="386" name="Oval 33"/>
          <p:cNvSpPr/>
          <p:nvPr/>
        </p:nvSpPr>
        <p:spPr>
          <a:xfrm>
            <a:off x="4286160" y="3646440"/>
            <a:ext cx="857520" cy="714600"/>
          </a:xfrm>
          <a:prstGeom prst="ellipse">
            <a:avLst/>
          </a:prstGeom>
          <a:solidFill>
            <a:srgbClr val="d8b25c"/>
          </a:solidFill>
          <a:ln w="10080">
            <a:solidFill>
              <a:srgbClr val="d8b25c"/>
            </a:solidFill>
            <a:miter/>
          </a:ln>
          <a:effectLst>
            <a:outerShdw dist="2988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Tw Cen MT"/>
              </a:rPr>
              <a:t>MI Survivor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7" name="Curved Connector 35"/>
          <p:cNvCxnSpPr>
            <a:stCxn id="381" idx="6"/>
            <a:endCxn id="386" idx="2"/>
          </p:cNvCxnSpPr>
          <p:nvPr/>
        </p:nvCxnSpPr>
        <p:spPr>
          <a:xfrm>
            <a:off x="3643200" y="3965400"/>
            <a:ext cx="643320" cy="38880"/>
          </a:xfrm>
          <a:prstGeom prst="curvedConnector5">
            <a:avLst>
              <a:gd name="adj1" fmla="val 50000"/>
              <a:gd name="adj2" fmla="val 49532"/>
              <a:gd name="adj3" fmla="val 50000"/>
            </a:avLst>
          </a:prstGeom>
          <a:ln w="34920">
            <a:solidFill>
              <a:srgbClr val="94b6d2"/>
            </a:solidFill>
            <a:miter/>
            <a:tailEnd len="med" type="arrow" w="med"/>
          </a:ln>
        </p:spPr>
      </p:cxnSp>
      <p:cxnSp>
        <p:nvCxnSpPr>
          <p:cNvPr id="388" name="Curved Connector 37"/>
          <p:cNvCxnSpPr>
            <a:stCxn id="386" idx="6"/>
          </p:cNvCxnSpPr>
          <p:nvPr/>
        </p:nvCxnSpPr>
        <p:spPr>
          <a:xfrm flipV="1">
            <a:off x="5143680" y="3857040"/>
            <a:ext cx="429120" cy="146520"/>
          </a:xfrm>
          <a:prstGeom prst="curvedConnector5">
            <a:avLst>
              <a:gd name="adj1" fmla="val 49958"/>
              <a:gd name="adj2" fmla="val 50000"/>
              <a:gd name="adj3" fmla="val 49958"/>
            </a:avLst>
          </a:prstGeom>
          <a:ln w="34920">
            <a:solidFill>
              <a:srgbClr val="94b6d2"/>
            </a:solidFill>
            <a:miter/>
            <a:tailEnd len="med" type="arrow" w="med"/>
          </a:ln>
        </p:spPr>
      </p:cxnSp>
      <p:cxnSp>
        <p:nvCxnSpPr>
          <p:cNvPr id="389" name="Curved Connector 39"/>
          <p:cNvCxnSpPr>
            <a:stCxn id="386" idx="0"/>
          </p:cNvCxnSpPr>
          <p:nvPr/>
        </p:nvCxnSpPr>
        <p:spPr>
          <a:xfrm flipH="1" flipV="1" rot="5400000">
            <a:off x="5891760" y="2251440"/>
            <a:ext cx="218160" cy="2572560"/>
          </a:xfrm>
          <a:prstGeom prst="curvedConnector5">
            <a:avLst>
              <a:gd name="adj1" fmla="val 204958"/>
              <a:gd name="adj2" fmla="val 49993"/>
              <a:gd name="adj3" fmla="val 204958"/>
            </a:avLst>
          </a:prstGeom>
          <a:ln w="34920">
            <a:solidFill>
              <a:srgbClr val="94b6d2"/>
            </a:solidFill>
            <a:miter/>
            <a:tailEnd len="med" type="arrow" w="med"/>
          </a:ln>
        </p:spPr>
      </p:cxnSp>
      <p:cxnSp>
        <p:nvCxnSpPr>
          <p:cNvPr id="390" name="Curved Connector 41"/>
          <p:cNvCxnSpPr/>
          <p:nvPr/>
        </p:nvCxnSpPr>
        <p:spPr>
          <a:xfrm flipV="1">
            <a:off x="6286320" y="3785400"/>
            <a:ext cx="643320" cy="7236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34920">
            <a:solidFill>
              <a:srgbClr val="94b6d2"/>
            </a:solidFill>
            <a:miter/>
            <a:tailEnd len="med" type="arrow" w="med"/>
          </a:ln>
        </p:spPr>
      </p:cxnSp>
      <p:sp>
        <p:nvSpPr>
          <p:cNvPr id="381" name="Oval 42"/>
          <p:cNvSpPr/>
          <p:nvPr/>
        </p:nvSpPr>
        <p:spPr>
          <a:xfrm>
            <a:off x="2571840" y="3214800"/>
            <a:ext cx="1071360" cy="1500120"/>
          </a:xfrm>
          <a:prstGeom prst="ellipse">
            <a:avLst/>
          </a:prstGeom>
          <a:solidFill>
            <a:srgbClr val="de3f2e">
              <a:alpha val="38000"/>
            </a:srgbClr>
          </a:solidFill>
          <a:ln w="19080">
            <a:solidFill>
              <a:srgbClr val="c0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1" name="Oval 46"/>
          <p:cNvGrpSpPr/>
          <p:nvPr/>
        </p:nvGrpSpPr>
        <p:grpSpPr>
          <a:xfrm>
            <a:off x="3657600" y="5967360"/>
            <a:ext cx="822240" cy="824040"/>
            <a:chOff x="3657600" y="5967360"/>
            <a:chExt cx="822240" cy="824040"/>
          </a:xfrm>
        </p:grpSpPr>
        <p:pic>
          <p:nvPicPr>
            <p:cNvPr id="392" name="Oval 46" descr=""/>
            <p:cNvPicPr/>
            <p:nvPr/>
          </p:nvPicPr>
          <p:blipFill>
            <a:blip r:embed="rId4"/>
            <a:stretch/>
          </p:blipFill>
          <p:spPr>
            <a:xfrm>
              <a:off x="3657600" y="5967360"/>
              <a:ext cx="822240" cy="82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3" name=""/>
            <p:cNvSpPr/>
            <p:nvPr/>
          </p:nvSpPr>
          <p:spPr>
            <a:xfrm>
              <a:off x="3819600" y="6105600"/>
              <a:ext cx="504720" cy="50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ffffff"/>
                  </a:solidFill>
                  <a:latin typeface="Tw Cen MT"/>
                </a:rPr>
                <a:t>Strok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94" name="Curved Connector 47"/>
          <p:cNvCxnSpPr/>
          <p:nvPr/>
        </p:nvCxnSpPr>
        <p:spPr>
          <a:xfrm>
            <a:off x="1999800" y="4000680"/>
            <a:ext cx="1715400" cy="2358000"/>
          </a:xfrm>
          <a:prstGeom prst="curvedConnector5">
            <a:avLst>
              <a:gd name="adj1" fmla="val 10537"/>
              <a:gd name="adj2" fmla="val 49992"/>
              <a:gd name="adj3" fmla="val 10537"/>
            </a:avLst>
          </a:prstGeom>
          <a:ln w="34920">
            <a:solidFill>
              <a:srgbClr val="94b6d2"/>
            </a:solidFill>
            <a:miter/>
            <a:tailEnd len="med" type="arrow" w="med"/>
          </a:ln>
        </p:spPr>
      </p:cxnSp>
      <p:cxnSp>
        <p:nvCxnSpPr>
          <p:cNvPr id="395" name="Curved Connector 52"/>
          <p:cNvCxnSpPr/>
          <p:nvPr/>
        </p:nvCxnSpPr>
        <p:spPr>
          <a:xfrm flipV="1">
            <a:off x="4429080" y="4142880"/>
            <a:ext cx="2858400" cy="2215440"/>
          </a:xfrm>
          <a:prstGeom prst="curvedConnector2">
            <a:avLst/>
          </a:prstGeom>
          <a:ln w="34920">
            <a:solidFill>
              <a:srgbClr val="94b6d2"/>
            </a:solidFill>
            <a:miter/>
            <a:tailEnd len="med" type="arrow" w="med"/>
          </a:ln>
        </p:spPr>
      </p:cxnSp>
      <p:cxnSp>
        <p:nvCxnSpPr>
          <p:cNvPr id="396" name="Curved Connector 55"/>
          <p:cNvCxnSpPr>
            <a:endCxn id="381" idx="4"/>
          </p:cNvCxnSpPr>
          <p:nvPr/>
        </p:nvCxnSpPr>
        <p:spPr>
          <a:xfrm flipV="1" rot="16200000">
            <a:off x="2945880" y="4874760"/>
            <a:ext cx="1286640" cy="965880"/>
          </a:xfrm>
          <a:prstGeom prst="curvedConnector5">
            <a:avLst>
              <a:gd name="adj1" fmla="val 81108"/>
              <a:gd name="adj2" fmla="val 50000"/>
              <a:gd name="adj3" fmla="val 81108"/>
            </a:avLst>
          </a:prstGeom>
          <a:ln w="34920">
            <a:solidFill>
              <a:srgbClr val="94b6d2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w Cen MT"/>
              </a:rPr>
              <a:t>Efficacy vs effectiveness: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RCT and SR usually better than real practice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Uptake: those not receiving the drug do not benefit from it.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w Cen MT"/>
              </a:rPr>
              <a:t>Many interventions acting on the same individuals: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Estimation of a common effect: The Mant-Hicks approach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8" name="Object 2"/>
              <p:cNvSpPr txBox="1"/>
              <p:nvPr/>
            </p:nvSpPr>
            <p:spPr>
              <a:xfrm>
                <a:off x="1714680" y="4929120"/>
                <a:ext cx="5500440" cy="28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mmonRRR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RRRa</m:t>
                    </m:r>
                    <m:r>
                      <m:t xml:space="preserve">)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RRRb</m:t>
                    </m:r>
                    <m:r>
                      <m:t xml:space="preserve">)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RRR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775f55"/>
                </a:solidFill>
                <a:latin typeface="Tw Cen MT"/>
              </a:rPr>
              <a:t>Key issues when modelling interventions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775f55"/>
                </a:solidFill>
                <a:latin typeface="Tw Cen MT"/>
              </a:rPr>
              <a:t>Summary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Patients group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Strategie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High quality information on efficacy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AMI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PCI vs thrombolysi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Chronic Angina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CABG vs PCI vs Medical Managemen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Heart Failure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Statin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Key facts in modelling intervention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775f55"/>
                </a:solidFill>
                <a:latin typeface="Tw Cen MT"/>
              </a:rPr>
              <a:t>Key patients group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Acute Coronary Syndrome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Stable Angina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Heart Failur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Strok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Peripheral Arterial diseas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775f55"/>
                </a:solidFill>
                <a:latin typeface="Tw Cen MT"/>
              </a:rPr>
              <a:t>Strategies to Manage CVD Diseas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Aims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w Cen MT"/>
              </a:rPr>
              <a:t>Prevent clinical disease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w Cen MT"/>
              </a:rPr>
              <a:t>Postpone disease progression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w Cen MT"/>
              </a:rPr>
              <a:t>Decrease mortality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w Cen MT"/>
              </a:rPr>
              <a:t>Increase Quality of Life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775f55"/>
                </a:solidFill>
                <a:latin typeface="Tw Cen MT"/>
              </a:rPr>
              <a:t>Acute Coronary Syndrome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w Cen MT"/>
              </a:rPr>
              <a:t>Complex situation: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Definitions keep changing for clinical purposes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Epidemiological definitions: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w Cen MT"/>
              </a:rPr>
              <a:t>Circulation. 2003 Nov 18;108(20):2543-9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w Cen MT"/>
              </a:rPr>
              <a:t>EuroCISS: </a:t>
            </a:r>
            <a:r>
              <a:rPr b="0" lang="fr-FR" sz="1800" spc="-1" strike="noStrike" u="sng">
                <a:solidFill>
                  <a:srgbClr val="f7b615"/>
                </a:solidFill>
                <a:uFillTx/>
                <a:latin typeface="Tw Cen MT"/>
                <a:hlinkClick r:id="rId1"/>
              </a:rPr>
              <a:t>http://www.cuore.iss.it/eurociss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Groups (Clinical)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Acute Myocardial infarctio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w Cen MT"/>
              </a:rPr>
              <a:t>STEMI (ST elevation Myocardial Infarction)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w Cen MT"/>
              </a:rPr>
              <a:t>NSTEMI (Non ST elevation Myocardial infarction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Unstable angina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775f55"/>
                </a:solidFill>
                <a:latin typeface="Tw Cen MT"/>
              </a:rPr>
              <a:t>Acute myocardial infarction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15720" indent="-31572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Tw Cen MT"/>
              </a:rPr>
              <a:t>Atherosclerotic plaque rupture leading to a sudden occlusion of a coronary artery </a:t>
            </a: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Tw Cen MT"/>
              </a:rPr>
              <a:t>Myocardial muscle loss. </a:t>
            </a: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  <a:p>
            <a:pPr lvl="1" marL="633240" indent="-27000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Tw Cen MT"/>
              </a:rPr>
              <a:t>Host of complications:</a:t>
            </a:r>
            <a:endParaRPr b="0" lang="en-US" sz="1500" spc="-1" strike="noStrike">
              <a:solidFill>
                <a:srgbClr val="000000"/>
              </a:solidFill>
              <a:latin typeface="Tw Cen MT"/>
            </a:endParaRPr>
          </a:p>
          <a:p>
            <a:pPr lvl="2" marL="905040" indent="-226080">
              <a:lnSpc>
                <a:spcPct val="8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w Cen MT"/>
              </a:rPr>
              <a:t>Electrical: arryhtmias</a:t>
            </a:r>
            <a:endParaRPr b="0" lang="en-US" sz="1300" spc="-1" strike="noStrike">
              <a:solidFill>
                <a:srgbClr val="000000"/>
              </a:solidFill>
              <a:latin typeface="Tw Cen MT"/>
            </a:endParaRPr>
          </a:p>
          <a:p>
            <a:pPr lvl="2" marL="905040" indent="-226080">
              <a:lnSpc>
                <a:spcPct val="8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w Cen MT"/>
              </a:rPr>
              <a:t>Mechanical: heart failure and cardiogenic shoc</a:t>
            </a:r>
            <a:endParaRPr b="0" lang="en-US" sz="13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w Cen MT"/>
              </a:rPr>
              <a:t>Therapy:</a:t>
            </a: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  <a:p>
            <a:pPr lvl="1" marL="633240" indent="-27000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Tw Cen MT"/>
              </a:rPr>
              <a:t>Type of AMI (STEMI vs NSTEMI) is critical to guide decisions</a:t>
            </a: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  <a:p>
            <a:pPr lvl="2" marL="905040" indent="-226080">
              <a:lnSpc>
                <a:spcPct val="8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w Cen MT"/>
              </a:rPr>
              <a:t>Decrease size of infarct</a:t>
            </a:r>
            <a:endParaRPr b="0" lang="en-US" sz="1300" spc="-1" strike="noStrike">
              <a:solidFill>
                <a:srgbClr val="000000"/>
              </a:solidFill>
              <a:latin typeface="Tw Cen MT"/>
            </a:endParaRPr>
          </a:p>
          <a:p>
            <a:pPr lvl="2" marL="905040" indent="-226080">
              <a:lnSpc>
                <a:spcPct val="8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w Cen MT"/>
              </a:rPr>
              <a:t>Treat complications</a:t>
            </a:r>
            <a:endParaRPr b="0" lang="en-US" sz="1300" spc="-1" strike="noStrike">
              <a:solidFill>
                <a:srgbClr val="000000"/>
              </a:solidFill>
              <a:latin typeface="Tw Cen MT"/>
            </a:endParaRPr>
          </a:p>
          <a:p>
            <a:pPr lvl="2" marL="905040" indent="-226080">
              <a:lnSpc>
                <a:spcPct val="8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w Cen MT"/>
              </a:rPr>
              <a:t>Stabilize atherosclerotic plaque to prevent further ischemic events</a:t>
            </a:r>
            <a:endParaRPr b="0" lang="en-US" sz="13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Tw Cen MT"/>
              </a:rPr>
              <a:t>Efficacy outcomes:</a:t>
            </a:r>
            <a:r>
              <a:rPr b="0" lang="en-GB" sz="15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w Cen MT"/>
            </a:endParaRPr>
          </a:p>
          <a:p>
            <a:pPr lvl="1" marL="633240" indent="-27000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w Cen MT"/>
              </a:rPr>
              <a:t>Rates of major cardiovascular events:</a:t>
            </a:r>
            <a:endParaRPr b="0" lang="en-US" sz="1300" spc="-1" strike="noStrike">
              <a:solidFill>
                <a:srgbClr val="000000"/>
              </a:solidFill>
              <a:latin typeface="Tw Cen MT"/>
            </a:endParaRPr>
          </a:p>
          <a:p>
            <a:pPr lvl="2" marL="905040" indent="-226080">
              <a:lnSpc>
                <a:spcPct val="8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w Cen MT"/>
              </a:rPr>
              <a:t>Death</a:t>
            </a: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  <a:p>
            <a:pPr lvl="2" marL="905040" indent="-226080">
              <a:lnSpc>
                <a:spcPct val="8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w Cen MT"/>
              </a:rPr>
              <a:t>Recurrent AMI</a:t>
            </a: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  <a:p>
            <a:pPr lvl="2" marL="905040" indent="-226080">
              <a:lnSpc>
                <a:spcPct val="8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w Cen MT"/>
              </a:rPr>
              <a:t>Refractory ischaemia</a:t>
            </a: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  <a:p>
            <a:pPr lvl="2" marL="905040" indent="-226080">
              <a:lnSpc>
                <a:spcPct val="8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w Cen MT"/>
              </a:rPr>
              <a:t>Stroke. </a:t>
            </a: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Tw Cen MT"/>
              </a:rPr>
              <a:t>Safety outcomes:</a:t>
            </a:r>
            <a:r>
              <a:rPr b="0" lang="en-GB" sz="15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w Cen MT"/>
            </a:endParaRPr>
          </a:p>
          <a:p>
            <a:pPr lvl="1" marL="633240" indent="-27000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w Cen MT"/>
              </a:rPr>
              <a:t>Rates of major bleeding</a:t>
            </a: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  <a:p>
            <a:pPr lvl="1" marL="633240" indent="-27000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406" name="Picture 1" descr="Beneficial"/>
          <p:cNvPicPr/>
          <p:nvPr/>
        </p:nvPicPr>
        <p:blipFill>
          <a:blip r:embed="rId1"/>
          <a:stretch/>
        </p:blipFill>
        <p:spPr>
          <a:xfrm>
            <a:off x="0" y="0"/>
            <a:ext cx="228600" cy="15228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2" descr="Likely to be beneficial"/>
          <p:cNvPicPr/>
          <p:nvPr/>
        </p:nvPicPr>
        <p:blipFill>
          <a:blip r:embed="rId2"/>
          <a:stretch/>
        </p:blipFill>
        <p:spPr>
          <a:xfrm>
            <a:off x="0" y="0"/>
            <a:ext cx="228600" cy="15228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3" descr="Trade off between benefits and harms"/>
          <p:cNvPicPr/>
          <p:nvPr/>
        </p:nvPicPr>
        <p:blipFill>
          <a:blip r:embed="rId3"/>
          <a:stretch/>
        </p:blipFill>
        <p:spPr>
          <a:xfrm>
            <a:off x="0" y="0"/>
            <a:ext cx="228600" cy="15228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4" descr="Unlikely to be beneficial"/>
          <p:cNvPicPr/>
          <p:nvPr/>
        </p:nvPicPr>
        <p:blipFill>
          <a:blip r:embed="rId4"/>
          <a:stretch/>
        </p:blipFill>
        <p:spPr>
          <a:xfrm>
            <a:off x="0" y="0"/>
            <a:ext cx="228600" cy="15228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5" descr="Likely to be ineffective or harmful"/>
          <p:cNvPicPr/>
          <p:nvPr/>
        </p:nvPicPr>
        <p:blipFill>
          <a:blip r:embed="rId5"/>
          <a:stretch/>
        </p:blipFill>
        <p:spPr>
          <a:xfrm>
            <a:off x="0" y="0"/>
            <a:ext cx="228600" cy="152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11" name=""/>
          <p:cNvGraphicFramePr/>
          <p:nvPr/>
        </p:nvGraphicFramePr>
        <p:xfrm>
          <a:off x="785880" y="1285920"/>
          <a:ext cx="7500960" cy="3844800"/>
        </p:xfrm>
        <a:graphic>
          <a:graphicData uri="http://schemas.openxmlformats.org/drawingml/2006/table">
            <a:tbl>
              <a:tblPr/>
              <a:tblGrid>
                <a:gridCol w="3166920"/>
                <a:gridCol w="2166840"/>
                <a:gridCol w="21672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Interven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Effect on mortal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Type  of evid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Angiotensin Converting Enzyme inhibito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S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Aspir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S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Beta Block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S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STEMI: Primary percutaneous coronary intervention (PCI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S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STEMI: Thrombolys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S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</a:tbl>
          </a:graphicData>
        </a:graphic>
      </p:graphicFrame>
      <p:sp>
        <p:nvSpPr>
          <p:cNvPr id="412" name="Down Arrow 12"/>
          <p:cNvSpPr/>
          <p:nvPr/>
        </p:nvSpPr>
        <p:spPr>
          <a:xfrm>
            <a:off x="4429080" y="1714680"/>
            <a:ext cx="928800" cy="500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81875a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w Cen MT"/>
              </a:rPr>
              <a:t>7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Down Arrow 13"/>
          <p:cNvSpPr/>
          <p:nvPr/>
        </p:nvSpPr>
        <p:spPr>
          <a:xfrm>
            <a:off x="4429080" y="2352600"/>
            <a:ext cx="928800" cy="500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81875a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w Cen MT"/>
              </a:rPr>
              <a:t>1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Down Arrow 14"/>
          <p:cNvSpPr/>
          <p:nvPr/>
        </p:nvSpPr>
        <p:spPr>
          <a:xfrm>
            <a:off x="4429080" y="3000240"/>
            <a:ext cx="928800" cy="500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81875a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w Cen MT"/>
              </a:rPr>
              <a:t>4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Down Arrow 15"/>
          <p:cNvSpPr/>
          <p:nvPr/>
        </p:nvSpPr>
        <p:spPr>
          <a:xfrm>
            <a:off x="4429080" y="3786120"/>
            <a:ext cx="928800" cy="500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81875a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w Cen MT"/>
              </a:rPr>
              <a:t>32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Down Arrow 16"/>
          <p:cNvSpPr/>
          <p:nvPr/>
        </p:nvSpPr>
        <p:spPr>
          <a:xfrm>
            <a:off x="4429080" y="4572000"/>
            <a:ext cx="928800" cy="500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81875a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w Cen MT"/>
              </a:rPr>
              <a:t>31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Box 17"/>
          <p:cNvSpPr/>
          <p:nvPr/>
        </p:nvSpPr>
        <p:spPr>
          <a:xfrm>
            <a:off x="1785960" y="5572080"/>
            <a:ext cx="5929200" cy="916920"/>
          </a:xfrm>
          <a:prstGeom prst="rect">
            <a:avLst/>
          </a:prstGeom>
          <a:gradFill rotWithShape="0">
            <a:gsLst>
              <a:gs pos="0">
                <a:srgbClr val="b7d3ed"/>
              </a:gs>
              <a:gs pos="100000">
                <a:srgbClr val="e9f0f8"/>
              </a:gs>
            </a:gsLst>
            <a:lin ang="5400000"/>
          </a:gradFill>
          <a:ln w="9360">
            <a:solidFill>
              <a:srgbClr val="8fb2c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ngoing deb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CI vs.  thrombo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775f55"/>
                </a:solidFill>
                <a:latin typeface="Tw Cen MT"/>
              </a:rPr>
              <a:t>Unstable Angina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15720" indent="-31572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Tw Cen MT"/>
              </a:rPr>
              <a:t>Atherosclerotic plaque unstable, producing inflammatory and thrombotic phenomena causing myocardial ischemia but not myocardial muscle death. </a:t>
            </a: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Tw Cen MT"/>
              </a:rPr>
              <a:t>Definition:</a:t>
            </a: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  <a:p>
            <a:pPr lvl="1" marL="633240" indent="-27000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Tw Cen MT"/>
              </a:rPr>
              <a:t>New  symptoms</a:t>
            </a:r>
            <a:endParaRPr b="0" lang="en-US" sz="900" spc="-1" strike="noStrike">
              <a:solidFill>
                <a:srgbClr val="000000"/>
              </a:solidFill>
              <a:latin typeface="Tw Cen MT"/>
            </a:endParaRPr>
          </a:p>
          <a:p>
            <a:pPr lvl="1" marL="633240" indent="-27000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Tw Cen MT"/>
              </a:rPr>
              <a:t>Recent change in the stable anginal symptoms pattern</a:t>
            </a:r>
            <a:endParaRPr b="0" lang="en-US" sz="900" spc="-1" strike="noStrike">
              <a:solidFill>
                <a:srgbClr val="000000"/>
              </a:solidFill>
              <a:latin typeface="Tw Cen MT"/>
            </a:endParaRPr>
          </a:p>
          <a:p>
            <a:pPr lvl="1" marL="633240" indent="-27000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Tw Cen MT"/>
              </a:rPr>
              <a:t>No evidence of myocardial necrosis. </a:t>
            </a:r>
            <a:endParaRPr b="0" lang="en-US" sz="9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w Cen MT"/>
              </a:rPr>
              <a:t>Therapy:</a:t>
            </a: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  <a:p>
            <a:pPr lvl="2" marL="905040" indent="-22608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w Cen MT"/>
              </a:rPr>
              <a:t>Avoid progression to AMI</a:t>
            </a:r>
            <a:endParaRPr b="0" lang="en-US" sz="1300" spc="-1" strike="noStrike">
              <a:solidFill>
                <a:srgbClr val="000000"/>
              </a:solidFill>
              <a:latin typeface="Tw Cen MT"/>
            </a:endParaRPr>
          </a:p>
          <a:p>
            <a:pPr lvl="2" marL="905040" indent="-22608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w Cen MT"/>
              </a:rPr>
              <a:t>Stabilize atherosclerotic plaque to avoid progression of ischemia (eg: to AMI)</a:t>
            </a:r>
            <a:endParaRPr b="0" lang="en-US" sz="1300" spc="-1" strike="noStrike">
              <a:solidFill>
                <a:srgbClr val="000000"/>
              </a:solidFill>
              <a:latin typeface="Tw Cen MT"/>
            </a:endParaRPr>
          </a:p>
          <a:p>
            <a:pPr lvl="2" marL="905040" indent="-22608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w Cen MT"/>
              </a:rPr>
              <a:t>Revascularization strategies based on risk of future events and anatomy</a:t>
            </a:r>
            <a:endParaRPr b="0" lang="en-US" sz="13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Tw Cen MT"/>
              </a:rPr>
              <a:t>Efficacy outcomes:</a:t>
            </a:r>
            <a:r>
              <a:rPr b="0" lang="en-GB" sz="15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w Cen MT"/>
            </a:endParaRPr>
          </a:p>
          <a:p>
            <a:pPr lvl="1" marL="633240" indent="-27000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w Cen MT"/>
              </a:rPr>
              <a:t>Rates of major cardiovascular events:</a:t>
            </a:r>
            <a:endParaRPr b="0" lang="en-US" sz="1300" spc="-1" strike="noStrike">
              <a:solidFill>
                <a:srgbClr val="000000"/>
              </a:solidFill>
              <a:latin typeface="Tw Cen MT"/>
            </a:endParaRPr>
          </a:p>
          <a:p>
            <a:pPr lvl="2" marL="905040" indent="-22608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w Cen MT"/>
              </a:rPr>
              <a:t>Death</a:t>
            </a: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  <a:p>
            <a:pPr lvl="2" marL="905040" indent="-22608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w Cen MT"/>
              </a:rPr>
              <a:t>AMI</a:t>
            </a: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  <a:p>
            <a:pPr lvl="2" marL="905040" indent="-22608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w Cen MT"/>
              </a:rPr>
              <a:t>Refractory ischaemia</a:t>
            </a: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  <a:p>
            <a:pPr lvl="2" marL="905040" indent="-22608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w Cen MT"/>
              </a:rPr>
              <a:t>Re admission to hospital </a:t>
            </a: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Tw Cen MT"/>
              </a:rPr>
              <a:t>Safety outcomes:</a:t>
            </a:r>
            <a:r>
              <a:rPr b="0" lang="en-GB" sz="15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w Cen MT"/>
            </a:endParaRPr>
          </a:p>
          <a:p>
            <a:pPr lvl="1" marL="633240" indent="-27000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w Cen MT"/>
              </a:rPr>
              <a:t>Rates of major bleeding</a:t>
            </a: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  <a:p>
            <a:pPr lvl="1" marL="633240" indent="-27000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775f55"/>
              </a:solidFill>
              <a:latin typeface="Tw Cen MT"/>
            </a:endParaRPr>
          </a:p>
        </p:txBody>
      </p:sp>
      <p:graphicFrame>
        <p:nvGraphicFramePr>
          <p:cNvPr id="421" name=""/>
          <p:cNvGraphicFramePr/>
          <p:nvPr/>
        </p:nvGraphicFramePr>
        <p:xfrm>
          <a:off x="714240" y="1714680"/>
          <a:ext cx="7500960" cy="4036680"/>
        </p:xfrm>
        <a:graphic>
          <a:graphicData uri="http://schemas.openxmlformats.org/drawingml/2006/table">
            <a:tbl>
              <a:tblPr/>
              <a:tblGrid>
                <a:gridCol w="3167280"/>
                <a:gridCol w="2166840"/>
                <a:gridCol w="21668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Interven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Effect on mortal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Type  of evid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Aspirin and Hepari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S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gpIIb/IIIa inhibitors/Clopidogr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S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Beta Block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S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Percutaneous coronary intervention (PCI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S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CAB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S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</a:tbl>
          </a:graphicData>
        </a:graphic>
      </p:graphicFrame>
      <p:sp>
        <p:nvSpPr>
          <p:cNvPr id="422" name="Down Arrow 4"/>
          <p:cNvSpPr/>
          <p:nvPr/>
        </p:nvSpPr>
        <p:spPr>
          <a:xfrm>
            <a:off x="4429080" y="2143080"/>
            <a:ext cx="928800" cy="500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81875a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w Cen MT"/>
              </a:rPr>
              <a:t>33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Down Arrow 5"/>
          <p:cNvSpPr/>
          <p:nvPr/>
        </p:nvSpPr>
        <p:spPr>
          <a:xfrm>
            <a:off x="4429080" y="2924280"/>
            <a:ext cx="928800" cy="500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81875a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w Cen MT"/>
              </a:rPr>
              <a:t>9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Down Arrow 6"/>
          <p:cNvSpPr/>
          <p:nvPr/>
        </p:nvSpPr>
        <p:spPr>
          <a:xfrm>
            <a:off x="4429080" y="3571920"/>
            <a:ext cx="928800" cy="500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81875a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w Cen MT"/>
              </a:rPr>
              <a:t>32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Down Arrow 7"/>
          <p:cNvSpPr/>
          <p:nvPr/>
        </p:nvSpPr>
        <p:spPr>
          <a:xfrm>
            <a:off x="4429080" y="4357800"/>
            <a:ext cx="928800" cy="500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81875a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w Cen MT"/>
              </a:rPr>
              <a:t>32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Down Arrow 8"/>
          <p:cNvSpPr/>
          <p:nvPr/>
        </p:nvSpPr>
        <p:spPr>
          <a:xfrm>
            <a:off x="4429080" y="5143680"/>
            <a:ext cx="928800" cy="500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81875a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w Cen MT"/>
              </a:rPr>
              <a:t>43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9T14:26:09Z</dcterms:created>
  <dc:creator>Martin O'Flaherty</dc:creator>
  <dc:description/>
  <dc:language>en-US</dc:language>
  <cp:lastModifiedBy>Computing Services</cp:lastModifiedBy>
  <dcterms:modified xsi:type="dcterms:W3CDTF">2008-04-09T12:50:59Z</dcterms:modified>
  <cp:revision>40</cp:revision>
  <dc:subject/>
  <dc:title>Slide 1</dc:title>
</cp:coreProperties>
</file>